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2085-7D40-4AC1-9329-CB19CB9385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Conceives of human beings as parts of a larger whole, lifting them beyond their self-interest and giving content to “empty” universal rules of mor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Related to, but not identical with, the </a:t>
            </a:r>
            <a:r>
              <a:rPr b="0" i="1" lang="en-NZ" sz="1200" spc="-1" strike="noStrike">
                <a:solidFill>
                  <a:srgbClr val="000000"/>
                </a:solidFill>
                <a:latin typeface="Arial"/>
              </a:rPr>
              <a:t>volk</a:t>
            </a: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 or nation as a cultural e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War not an occasion for individual hero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D6CD-3385-469E-B002-87DC08D45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329F-453F-4812-BB73-912CE6E4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07E1-C021-4117-9D20-51493D5A5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3359-5AF4-4C1C-B6D7-9990936FA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BBE6-D9BA-42E2-B21B-7E3FB7FA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2E77-36B2-4FF5-A77D-AC6552FC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DF5B-B967-47DC-9548-984A06E9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C603-6052-411A-B0AB-6EB6ED2C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F38A-C944-457C-A42B-2EB04E95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F444-894D-40EA-B10D-6C01C32C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9868-95FF-4C1E-B31A-36252C73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C7EA-2C77-405D-AB5B-CBAB06A5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6B51-A040-4745-9C62-417797E12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g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October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0" r="3655" b="0"/>
          <a:stretch/>
        </p:blipFill>
        <p:spPr>
          <a:xfrm>
            <a:off x="826920" y="333360"/>
            <a:ext cx="2592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at is the essence of the st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t can ask you to die for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Because it embodies the shared values of a people in a rational form (law): it gives rational shape to a cultural id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state reconciles the individual to the community without destroying his/her individuality, and gives ethical content to his/her free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he state as an ethical commun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n “organic” community composed of classes with a specific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monarch: represents the “unity” and “individuality” of the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military: sacrifices itself for the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civil servants: embody the “universality” of the values of the state in their concern for the rule of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bourgeois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he nation-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nation-state is the self-conscious form of the “spirit” as a purposely cultivated cultural life in rational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egel makes no assumption that there must be one state per nation, how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ach nation-state a distinct manifestation of spirit and so a form of right: each state is sovereign with respect to every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ome states are “higher” manifestations of spirit than others, and have the right to treat the lower manifestations as “barbarian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ation-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Like individuals, the state requires recognition by other states in order to attain its self-consciousness and individuality, its “identit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cognition demands plurality and confl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gel’s critique of K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ar is part of the rational process of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“purpose” of war is not to lead to perpetual peace, but to preserve and enhance a particular manifestation of spirit, a cultural identity in rational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ithout the 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possibility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f war (of existential conflict), the state would disintegrate into civil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egel’s Critique of K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possibility of war is preserved by the sovereignty of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federation of states could not eliminate this possibility without also eliminating sovereig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ar and the 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ar results from the concern of each state for its own welfare and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ar enhances shared values – the unity of the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Lifts people out of their concern with material possessions characteristic of civil society: promotes civic virtue (as “selflessness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Enhances the unity of the state which is likely to fragment by prolonged pe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Limits o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ar should be limited by the fact of mutual recognition: it ought to come to an end in a way that preserves the possibility of pe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ostility in modern war should be abstract, not individua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War is a conflict between states, and hence militaries as the class of people who have the function of warmaking in the state and embody its cou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Yet war can always devolve into a war of survival; this is necessary for war to serve its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s o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treatment of soldiers, etc. depends merely on customs, but these customs embody valid conceptions of right in a historical time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n modern times war is limited in the European context through common customs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s o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ar is not to be 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justified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with reference to its general salutary effects in any particular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justification of any particular war will always have to do with the specific “welfare” of a state, but not with the abstract preservation of a state’s 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eg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istory as the unfolding of “spirit” (Geist) in human cultural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hilosophy as the retrospective description of the rationality of this unfo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istorical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is the World’s Court of Judgment: the rise and fall of states in history reveals the judgment of spi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very age, certain states rise to be the representatives of dominant cultural forms that embody certain moments of the historic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gel identifies “Oriental” states, Greece, Rome, and the German states as important s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ome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Hegel predicts that modern warfare will be more “rational” because more abstract and less individu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“individuality” or “sovereignty” of the state is in tension with the idea that war must, and can, be lim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idea of a historical unfolding of the spirit leading to the ethical state seems to lead to perpetual peace anyway (“The End of History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x “inverts” Heg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ing states do not embody any special values; they represent dominant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 unfolds in a rational process towards greater freedom and rationality, but through a conflict of classes over resources rather than a conflict of ideas over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dividual and soc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ll hitherto existing forms of society (including Hegel’s rational state), the individual is alienated from his social exis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in communist society can the individual be reconciled to the community without losing his or her individ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moral progr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sseau: There is moral dec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nt: we cannot prove that there is, but the assumption of moral progress makes sense of our duties towards perpetual pe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: we cannot prove it, but there are strong grounds for assuming some form of moral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Progr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pirit unfolds towards greater rationality and freedom : there is moral progress for Heg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n the movement from family to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n the movement from ancient forms of the state to modern forms of the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historical process unfolds 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dialectically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, through the tensions among contradictory ideas and the resolution of these tensions in higher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ersonal and cultural growth, in particular, depends in part on the struggle for 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recognition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: people define themselves in opposition to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he forms of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family: the realm of unconditional l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o struggle for recognition within the family: the individual is absorbed within the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ivil society: the realm of self-interested individual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struggle for recognition in civil society gives rise to the free but disconnected individual (he is alienated, as Marx says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state: the ethical re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individual is reconciled to the community in the state, while maintaining his status as a free b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beings are members of families unconditionally; membership does not depend on free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ity requires the possibility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g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s sustained by strug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ce the family cannot provide a context of recognition necessary for a person to become a free and rational indivi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 Soc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 civil society, human beings appear as possessors of individual rights which they can assert against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ivil society makes possible individuality through the mutual recognition that conflict and opposition bring; membership depends on free activity, and can be neg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 soc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civil society enoug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cial contract tradition says yes: the state is simply the agency that protects these individual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22:41:33Z</dcterms:created>
  <dc:creator>Full Name</dc:creator>
  <dc:description/>
  <dc:language>en-US</dc:language>
  <cp:lastModifiedBy>Xavier Marquez</cp:lastModifiedBy>
  <dcterms:modified xsi:type="dcterms:W3CDTF">2008-09-30T18:43:09Z</dcterms:modified>
  <cp:revision>8</cp:revision>
  <dc:subject/>
  <dc:title>Slide 1</dc:title>
</cp:coreProperties>
</file>